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C21-EAEF-4FA1-A8FC-3ED918CD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989-E2F0-4A65-8570-E12127DB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908-FF1A-4B7C-997E-817D6856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8D8-72D2-4E36-8954-BC0C0DC6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B96-B7CF-4382-83BD-AA1EB92C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273-B977-4AFF-ABB0-431ECB26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114-2E22-425A-A032-90843A8B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882-4689-4B06-A54A-4C25CA20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E7D-249A-4DAD-89AC-AE14652A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B50-89A3-41DA-9B7D-F5F1CF25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424-824D-45A0-A695-6130875C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FFA-126D-4BD2-8BFE-B2B3156B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F2AB-80C2-420D-BA3B-F5D89A749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: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Patrick Tran XD Sammy Caldwel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t Russians Bleh :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rote many novels on Russia in the communist ti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didn’t get to choose what religion they h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s persecuted out spoken religious le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05320" y="4267080"/>
            <a:ext cx="2390760" cy="2343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15238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1371600"/>
            <a:ext cx="266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mmunism fell the Russians went back to there religions including:            Judaism, Christianity and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s use a different alphabet that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use similar numbers and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us, they have 33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91120" y="5257800"/>
            <a:ext cx="441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 language is related to Greek, Latin and other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24:20Z</dcterms:created>
  <dc:creator> </dc:creator>
  <dc:description/>
  <dc:language>en-US</dc:language>
  <cp:lastModifiedBy> </cp:lastModifiedBy>
  <dcterms:modified xsi:type="dcterms:W3CDTF">2010-12-15T15:48:16Z</dcterms:modified>
  <cp:revision>3</cp:revision>
  <dc:subject/>
  <dc:title>Culture :D </dc:title>
</cp:coreProperties>
</file>